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6C8-D9DD-46FC-B1F5-E1C4582D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8DB-EFE1-465B-BD9A-2E46588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3A6-A012-465B-B5A6-7E4DD590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3D5-847A-4C06-B8AF-EF5BE7A9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C140-88CC-495B-9217-9823DCAB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5804-8303-45C2-9681-9868B56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DAE2-E9EB-4F3D-9DE2-5DE28D8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A22-1642-455B-B3F4-B5A73E39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F881-707D-4152-A349-DF9FF029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AC64-96D4-4316-B8A9-D73D429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436-46E9-4337-862C-C503320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09B-E21D-4F73-A3EC-9B3F3EA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1DD-69D5-4288-AE4F-A283DEB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8FE-8A31-4E3E-9123-BE844D4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EC8-237D-480D-B95C-B82333A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6A03-B60A-4FA1-A16F-9B2D72B5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B79-3CF6-44FD-B915-F0C3ECBD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1606F-F6FD-42B7-9FAE-D25E50D5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EC3CF-96DC-4FAF-A9B8-FD54E677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D5005-259D-4E42-B1CF-E2D34104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E72FC-2014-4A0D-BE0C-909C47F7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27E68-05DF-4B98-82C0-B5CB7DB5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DA8-315C-4D25-B98C-D7A5F77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B8C69-D8BC-4D99-A783-977EE51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B3E6A-BC25-4B7A-A6C4-AD37804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2BE99-D664-4A01-B208-04EAD47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613E-9C7D-4748-A0CD-540AFC4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BAD57-26CA-4873-9155-449B1E9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296BA-76EC-4B36-83D3-679E03D7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9BA76-7A06-4FE4-9908-2A5388D5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6CC7-B986-4433-834D-FCBA9F1E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062A-1BD9-479D-80C1-781FE31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824C-BA75-4670-BA46-0CC5EDF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957-65D5-4EF9-8851-00BBEE8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2549-0EFC-4FA0-978C-6F8559A8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DCA2-14BC-46E6-96DA-288F4F1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87A6-5377-498A-98A6-58037FA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72B0-7ACF-438B-9D7A-DFDCE38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BF4B-B2EF-42C6-85E1-A405559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5285-CA23-4BB3-9B01-692A6FD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1C75-F68E-41E7-B3BB-E8CFC1D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C56C-062C-4849-AA89-422E0105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CFA4-551C-41BA-97FB-CAE9B6C3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1051F-01AE-4A4F-9794-D1B03ACE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9F3-02FA-4F84-ABA7-00A1BEE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28E89-6EAE-4552-8B4E-E766680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D68A2-98A4-42C6-B46A-E01B60C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816D0-A60C-4510-9E44-01BF9CE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3899C-B8B5-4D2B-BD4B-6C617B9B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CA65F-C68C-4D82-AFD9-59869C4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46773-27E6-4A11-B024-2EF4BC6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34F89-EE79-4A6E-9B62-81BC155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5BEBB-808C-41F1-A6FF-9C6ADD3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CC4F3-D472-46CA-B04B-5470ED5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14BC6-6EC3-4595-9777-F3EC7F29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FCA-E60A-4011-A745-37E5CD44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DAF49-7840-41D5-AA22-6450F421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39E6C-F1E5-40D4-A1D1-598B55BE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0FE1D-7341-453A-B2E6-34E6C48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D4EE9-84B3-46B0-B196-41C83AF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B8CBF-D216-4B2D-9B9C-A9EEEFD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7B605-7CCD-46E7-913E-475262F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757E2-23A5-4043-97CA-4053E54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6996A-2027-43C8-B971-56269A7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A86CB-AAFA-40A0-B145-FEA91EC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20C19-B024-4903-A405-E4727E9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C68-2891-4384-950A-1242B1C2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9EEED-F4F8-4A26-AA73-E81D866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79F7D-91BA-4DA7-B561-3675CF7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EF176-EFA0-448A-B8AC-A7C58C04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C7BC7-6FEB-4F8B-9C1B-91C58C6C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88CFD-4B90-4BD9-83FF-D802DA7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357E2-692D-49C9-9F52-53AE2265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F3E0D-3357-45F1-836E-57E75F35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0CD09-89A3-4BB2-AC1E-61503E3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CC310-619F-48B6-8F37-B5950B5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20867-8B2C-488C-BCA5-CB6AF5C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DC5-9223-4B2D-8F27-F1BA0B3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59C43-19F8-4FBE-82C4-66863AE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8CAFB-17C0-4DD9-A770-92246C8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0164A-6845-4DB7-B58D-0C81365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70B89-47FA-472C-B353-AB5F77FE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C971E-2E09-4E8D-8023-53624FDE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84E07-41E2-4242-AB42-15DA8495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9228-BEFD-4B1C-B6BF-BE523DE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CC55C-E4D8-439E-BC5E-3E105A4D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DC260-1011-48BF-A0A5-A8F2637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C9C7-9D57-4C41-A599-6D0146D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209-E77A-404F-9887-CABE101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A9EF-8395-46BE-A0A5-46EFBB18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79BD-4C22-439E-BECD-BF3D527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A3DA0-975D-4948-8521-6F8712A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A822C-965B-44AD-8C66-8A6D6BE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A7CB-56C0-4769-A273-27AEB5A5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2979-0020-4705-973D-18732257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287D1-F510-44C7-AA7F-DA66D93B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04A-9D0E-447A-A257-F12CF500A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2DA-1F65-4C95-AA06-1599481277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F9E2-8E75-4ABC-A119-E4489FF308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DCA-41E6-4D63-B6CB-D2AB2E84EE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C21-4A87-44C7-BB0D-5CD82FFB3E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417-A76D-455E-BC00-757C37423F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819-F16B-4E63-98E9-B997CECC1B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5F0-E03E-4AC4-B20E-2E0D457BB0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GASES &amp; </a:t>
            </a:r>
            <a:br>
              <a:rPr sz="4400"/>
            </a:b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EMPERATURE CHANG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5" descr="thermometer"/>
          <p:cNvPicPr/>
          <p:nvPr/>
        </p:nvPicPr>
        <p:blipFill>
          <a:blip r:embed="rId1"/>
          <a:stretch/>
        </p:blipFill>
        <p:spPr>
          <a:xfrm>
            <a:off x="5715000" y="838080"/>
            <a:ext cx="158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AY-LUSSAC’S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il_fi" descr=""/>
          <p:cNvPicPr/>
          <p:nvPr/>
        </p:nvPicPr>
        <p:blipFill>
          <a:blip r:embed="rId1"/>
          <a:stretch/>
        </p:blipFill>
        <p:spPr>
          <a:xfrm>
            <a:off x="0" y="4191120"/>
            <a:ext cx="3162240" cy="2371680"/>
          </a:xfrm>
          <a:prstGeom prst="rect">
            <a:avLst/>
          </a:prstGeom>
          <a:ln w="0">
            <a:noFill/>
          </a:ln>
        </p:spPr>
      </p:pic>
      <p:pic>
        <p:nvPicPr>
          <p:cNvPr id="428" name="il_fi" descr=""/>
          <p:cNvPicPr/>
          <p:nvPr/>
        </p:nvPicPr>
        <p:blipFill>
          <a:blip r:embed="rId2"/>
          <a:stretch/>
        </p:blipFill>
        <p:spPr>
          <a:xfrm>
            <a:off x="3657600" y="3844800"/>
            <a:ext cx="4648320" cy="30132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plained by the kinetic molecular the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As temperature of a gas increases, the molecules move at higher speeds (have more kinetic energy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More energy means they collide with the walls of the container more frequently and with greater forc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As a result, the pressure increases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Higher </a:t>
            </a:r>
            <a:r>
              <a:rPr b="0" i="1" lang="en-CA" sz="2100" spc="-1" strike="noStrike">
                <a:solidFill>
                  <a:srgbClr val="000000"/>
                </a:solidFill>
                <a:latin typeface="Century Schoolbook"/>
              </a:rPr>
              <a:t>temperature = more collisions with walls of container = more pressure</a:t>
            </a: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. 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116520" cy="2907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695760" y="2833560"/>
            <a:ext cx="3467160" cy="24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바탕"/>
              </a:rPr>
              <a:t>As the air inside the kernels heats up, it increases in pressure, making the popcorn suddenly burs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#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sealed storage tank contains carbon dioxide at 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and a pressure of 890 kPa at night. What is the new pressure if the tank and its contents warm to 3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during the da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890 kP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89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P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936kP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93    30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igned Work!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33160" y="16765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46 of text #5-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49 of text #13-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51 of text # 2 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ELVIN SCALE &amp; ABSOLUTE Z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les discovered that no matter the gas, the x-intercept would always be 0 K or -27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reasoned that at this T, molecular motion would cease (KE = 0 &amp;   V =0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l gases do have volume &amp; would liqueify at this 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rcRect l="1318" t="0" r="0" b="0"/>
          <a:stretch/>
        </p:blipFill>
        <p:spPr>
          <a:xfrm>
            <a:off x="4419720" y="1828800"/>
            <a:ext cx="4343400" cy="2674800"/>
          </a:xfrm>
          <a:prstGeom prst="rect">
            <a:avLst/>
          </a:prstGeom>
          <a:ln w="0">
            <a:noFill/>
          </a:ln>
        </p:spPr>
      </p:pic>
      <p:sp>
        <p:nvSpPr>
          <p:cNvPr id="404" name="Line 7"/>
          <p:cNvSpPr/>
          <p:nvPr/>
        </p:nvSpPr>
        <p:spPr>
          <a:xfrm flipH="1" flipV="1">
            <a:off x="5059440" y="4038120"/>
            <a:ext cx="4572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334120" y="5181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LES’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volume of a fixed mass of gas is proportional to its temperature when the pressure is kept const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981080" y="3032280"/>
            <a:ext cx="2438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EMO #1: TO GROW OR TO SHRINK?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you explain what is happening &amp; wh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l out your predict/explain – observe/explain card &amp; share with shoulder partn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4" descr="balloon"/>
          <p:cNvPicPr/>
          <p:nvPr/>
        </p:nvPicPr>
        <p:blipFill>
          <a:blip r:embed="rId1"/>
          <a:stretch/>
        </p:blipFill>
        <p:spPr>
          <a:xfrm rot="1147200">
            <a:off x="3962520" y="3429000"/>
            <a:ext cx="241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Relationship to K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s temperature increases, volume of a gas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 greater force means they exert a greater pressure on the walls of the contain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crea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the molecules move at higher speeds (have more kinetic energy).</a:t>
            </a: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they collide with the walls of the container and with one another more frequently and with greater for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If the external pressure on the gas stays the same, the gas pressure (on the inside) causes the container to increase in size (volume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00"/>
                </a:solidFill>
                <a:latin typeface="Century Schoolbook"/>
              </a:rPr>
              <a:t>More temperature = more energy = more collisions = expan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75f6d"/>
                </a:solidFill>
                <a:latin typeface="Century Schoolbook"/>
              </a:rPr>
              <a:t>Charles La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il_fi" descr=""/>
          <p:cNvPicPr/>
          <p:nvPr/>
        </p:nvPicPr>
        <p:blipFill>
          <a:blip r:embed="rId1"/>
          <a:stretch/>
        </p:blipFill>
        <p:spPr>
          <a:xfrm>
            <a:off x="0" y="3657600"/>
            <a:ext cx="3716280" cy="2787480"/>
          </a:xfrm>
          <a:prstGeom prst="rect">
            <a:avLst/>
          </a:prstGeom>
          <a:ln w="0">
            <a:noFill/>
          </a:ln>
        </p:spPr>
      </p:pic>
      <p:pic>
        <p:nvPicPr>
          <p:cNvPr id="416" name="il_fi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72080" cy="2529000"/>
          </a:xfrm>
          <a:prstGeom prst="rect">
            <a:avLst/>
          </a:prstGeom>
          <a:ln w="0">
            <a:noFill/>
          </a:ln>
        </p:spPr>
      </p:pic>
      <p:pic>
        <p:nvPicPr>
          <p:cNvPr id="417" name="il_fi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4764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#1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as piston is heated to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. The volume of the gas in the cylinder is 0.5L at 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. What is the final volume when the temperature is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0.5 L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303 K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= 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573 K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03     57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0.95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AY-LUSSAC’S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ressure of a fixed amount of gas, at constant volume, is directly proportional to its Kelvin temperat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981080" y="2987640"/>
            <a:ext cx="2210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EMO #2: HOW STRONG ARE YOU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you explain what is happening &amp; wh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l out your predict/explain – observe/explain card &amp; share with shoulder partn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4" descr="pop can"/>
          <p:cNvPicPr/>
          <p:nvPr/>
        </p:nvPicPr>
        <p:blipFill>
          <a:blip r:embed="rId1"/>
          <a:stretch/>
        </p:blipFill>
        <p:spPr>
          <a:xfrm>
            <a:off x="6400800" y="2971800"/>
            <a:ext cx="18129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1:30:26Z</dcterms:created>
  <dc:creator>End User</dc:creator>
  <dc:description/>
  <dc:language>en-US</dc:language>
  <cp:lastModifiedBy>Natalya</cp:lastModifiedBy>
  <dcterms:modified xsi:type="dcterms:W3CDTF">2011-12-21T13:53:58Z</dcterms:modified>
  <cp:revision>17</cp:revision>
  <dc:subject/>
  <dc:title>Gases &amp; Temperature Change</dc:title>
</cp:coreProperties>
</file>